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C7A4F-49A8-4662-8037-EE642915E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7BBC6-0C04-4978-85DC-D82F24AD4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E820D-0FB6-415C-ABE0-09E54B1B9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9E7A5-4D21-4D2C-94BC-6FE291463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00A4A-1919-489A-ACC8-E0E91ADF5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1CCE7-B07B-4263-86CB-FA7C98432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6FCCF-6AA6-4324-B0C1-381377505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4855D-0AE5-4BD4-87ED-785A7EE8A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AC8C7-9015-4AE2-9AAB-B159A100D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75494-7409-4CE2-997A-89D414968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C8FE2-D8BC-4ABE-9245-FCB8C2E63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D7CF2-1E94-4E31-8D88-1DB519C5C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22E60-1559-4B1C-AE34-EF679B435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F24AB-2C74-461C-9A5B-0BE588A72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7284C-AA19-4A7E-A086-B4FFE0F37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20E37-A652-4C09-AEF4-D9563DC43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56CDF-DBF2-4164-B011-C54E5F929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1DF4B-0F5D-44A3-A6AA-610DCA194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025FE-C338-4855-9536-3E4A9CDED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8299C-3924-44C1-95FE-78EEC0B0B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F14EE-B9AF-4012-AE4F-445A04730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CD63C-AB45-4546-948C-CDD54EA7F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C6B7B-639C-4EB7-884A-A2D91ACC2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096FF-346D-49AB-A2BD-D7C561E3D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FE20F-39E6-44D2-8B7C-0DE70CDF9B64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895480"/>
            <a:ext cx="85928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4124160"/>
            <a:ext cx="767700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E47F7-8852-4313-9FB6-CC01F70B0E09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9120" y="2418840"/>
            <a:ext cx="85932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제 </a:t>
            </a:r>
            <a:r>
              <a:rPr b="0" lang="en-US" sz="4400" spc="-1" strike="noStrike">
                <a:solidFill>
                  <a:srgbClr val="a3007c"/>
                </a:solidFill>
                <a:latin typeface="굴림"/>
                <a:ea typeface="굴림"/>
              </a:rPr>
              <a:t>4</a:t>
            </a: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장 정신지체아 교육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11000" y="4362480"/>
            <a:ext cx="7677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66560" y="1339920"/>
            <a:ext cx="8226720" cy="517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199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AAMR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평균 이하의 지적 능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0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가지 적응기술능력에서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2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가지 이상의 적응적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세 이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200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AAMR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기능의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개념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 적응기술에서 상당한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세 이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200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정의의 이론적 모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능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I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능력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개념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II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참여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상호작용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 역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V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신체적 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정신 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원인론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V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주변 상황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환경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문화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기회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정신지체의 개념 및 정의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a3007c"/>
                </a:solidFill>
                <a:latin typeface="굴림"/>
                <a:ea typeface="굴림"/>
              </a:rPr>
              <a:t>1992</a:t>
            </a: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년과 </a:t>
            </a:r>
            <a:r>
              <a:rPr b="0" lang="en-US" sz="4800" spc="-1" strike="noStrike">
                <a:solidFill>
                  <a:srgbClr val="a3007c"/>
                </a:solidFill>
                <a:latin typeface="굴림"/>
                <a:ea typeface="굴림"/>
              </a:rPr>
              <a:t>2002</a:t>
            </a: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년 정의 비교 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  <a:ea typeface="굴림"/>
              </a:rPr>
              <a:t>유지한 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정신지체 용어 계속 사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기능적 차원과 지원 강조는 동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진단의 세 가지 준거인 지능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행동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연령은 동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의 강도는 동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  <a:ea typeface="굴림"/>
              </a:rPr>
              <a:t>개선한 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요소에 표준편차 개념 삽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참여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상호작용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그리고 사회적 역할을 새로이 추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행동을 개념적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 기술로 표현한 것을 다면적 요소를 지닌 적용행동을 요인분석하고 개념화 하였다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을 사정하고 지원의 강도를 결정하기 위해 최근 연구결과 참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진단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분류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계획의 체계를 확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굴림"/>
                <a:ea typeface="굴림"/>
              </a:rPr>
              <a:t>정신지체 정의에 대하여 고려할 점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1)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정의의 확대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개념적 지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실질적 지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사회적 지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2) IQ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경계 점수를 낮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IQ 70-7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3)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정신지체는 더욱 좋아질 수도 있고 영구적이지 않을 수 있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환경과 지원의 정도 차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정상분포 곡선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286840" cy="45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  <a:ea typeface="굴림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393840" y="673200"/>
            <a:ext cx="8497800" cy="56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분류 및 특성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법적 분류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1, 2, 3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지원의 정도에 따른 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간헐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필요와 단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제한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정해진 기간 동안 일관된 지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광범위한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몇 환경에서 시간 제한 없는 정기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예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매일의 장기적인 가정 생활 지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전반적인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생애 전반에 걸쳐 모든 환경에서의 강도 높은 지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3)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지적 기능과 적응 기능의 수준에 따른 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경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중등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중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최중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2. 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특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진단 평가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 웩슬러 이동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-WISC-II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-1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1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언어성과 동작성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전체 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요인분석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언어적 이해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각적 조직화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주의집중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산만성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처리속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. K-AB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.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-12.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인지처리 척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능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습득도 척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성취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로 구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의 하위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순차처리와 동시처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 유아용 웩슬러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-WPPS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국립특수교육원 한국형 개인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ISE-KI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5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판 그림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PT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6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사회 성숙도 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17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의 문항으로 난이도 순서로 배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 일반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식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용의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이동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작업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의사소통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기관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사회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교육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교육목적 및 목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교육내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특수학교 기본교육과정의 기본적인 특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기능적 교육과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화용론에 관점을 둔 교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성교육에 관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퍼지이론과 진단평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a3007c"/>
                </a:solidFill>
                <a:latin typeface="Arial"/>
                <a:ea typeface="굴림"/>
              </a:rPr>
              <a:t>질문할 시간입니다</a:t>
            </a:r>
            <a:r>
              <a:rPr b="0" lang="en-US" sz="4000" spc="-1" strike="noStrike">
                <a:solidFill>
                  <a:srgbClr val="a3007c"/>
                </a:solidFill>
                <a:latin typeface="Arial"/>
                <a:ea typeface="굴림"/>
              </a:rPr>
              <a:t>.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2049480" y="1195560"/>
            <a:ext cx="561672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8T03:17:31Z</dcterms:created>
  <dc:creator/>
  <dc:description/>
  <dc:language>en-US</dc:language>
  <cp:lastModifiedBy>f</cp:lastModifiedBy>
  <dcterms:modified xsi:type="dcterms:W3CDTF">2007-04-05T04:00:23Z</dcterms:modified>
  <cp:revision>13</cp:revision>
  <dc:subject/>
  <dc:title>제 1장 교육과정과 교수학습</dc:title>
</cp:coreProperties>
</file>